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11414"/>
        <c:axId val="60287059"/>
      </c:barChart>
      <c:catAx>
        <c:axId val="86011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87059"/>
        <c:crosses val="autoZero"/>
        <c:auto val="1"/>
        <c:lblAlgn val="ctr"/>
        <c:lblOffset val="100"/>
        <c:noMultiLvlLbl val="0"/>
      </c:catAx>
      <c:valAx>
        <c:axId val="60287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11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87E-6100-4421-825C-D6BA88FA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B36-916E-4578-A1DC-5847111A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E8E-706B-4E04-AD03-68624E53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8C3-F363-4682-91E6-177EDF53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BBB-BE2F-4181-8273-13A483CE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F5B-D2F7-4CFE-86B0-4F5068BB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16F-AFEB-41CF-83D9-A991852A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117-6CD5-4581-96DE-87A1BF12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972-C369-40E3-83F9-62AAEB28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EFB-F097-4216-990C-A16629E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E18-DFFA-434E-B7FE-205078F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82A-784D-46E7-880C-9E0F7AFA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3C559-9FD4-4CC5-BB47-F743CCD154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