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0562"/>
        <c:axId val="50363542"/>
      </c:barChart>
      <c:catAx>
        <c:axId val="4980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63542"/>
        <c:crosses val="autoZero"/>
        <c:auto val="1"/>
        <c:lblAlgn val="ctr"/>
        <c:lblOffset val="100"/>
        <c:noMultiLvlLbl val="0"/>
      </c:catAx>
      <c:valAx>
        <c:axId val="50363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0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196-A6CC-43F1-93FF-885A5D84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F07-7884-4AEA-BA62-BEBC2169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9F7-7A29-42BE-AAE4-DA0A8830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8A2-DABD-4B21-9629-0E4DE65E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952-9EAD-431E-B561-7F6AF104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C86-B62D-4745-871D-43A1F818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E5F-5629-4380-B9A9-A415BC04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44B-9469-43E9-B914-91D75F77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245-CC71-4132-8FCA-AD43F5E9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D81-6D2D-47A6-8434-4B5A003D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675-8821-4FE9-B2EB-0F56755E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4C3-B874-4E26-9318-0F473975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9F9A2-7DC4-420D-9B66-EFDB6E1232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