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490998"/>
        <c:axId val="63290939"/>
      </c:barChart>
      <c:catAx>
        <c:axId val="934909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90939"/>
        <c:crosses val="autoZero"/>
        <c:auto val="1"/>
        <c:lblAlgn val="ctr"/>
        <c:lblOffset val="100"/>
        <c:noMultiLvlLbl val="0"/>
      </c:catAx>
      <c:valAx>
        <c:axId val="632909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909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17DF-F2AA-4B3E-A7DF-92869692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DE53-D257-465F-9171-C6C7BF4E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DACA-66BF-4F23-A476-8D1C410F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A4FC-24DA-4040-8FF9-1FA0EEE6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B21D-4B83-496B-82A4-11AA283D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AE93-5356-4B6A-A0DB-1BEF11AB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12F9-41D0-4ACF-A7CA-31005A69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9377-8B3A-4FD6-AA1E-65B9E358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0B2D-9100-4380-BBB7-645F3ECC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8D60-5BD0-4B70-A8D7-E3ECD6C0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433B-5E71-495B-87B7-84C0C0A7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A5B5-5796-46E4-8D67-2793E3E9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F7780-12D6-4D12-A29A-E3019FA83C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