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046659"/>
        <c:axId val="88900713"/>
      </c:barChart>
      <c:catAx>
        <c:axId val="190466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00713"/>
        <c:crosses val="autoZero"/>
        <c:auto val="1"/>
        <c:lblAlgn val="ctr"/>
        <c:lblOffset val="100"/>
        <c:noMultiLvlLbl val="0"/>
      </c:catAx>
      <c:valAx>
        <c:axId val="889007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466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E1EB-B47F-4C2C-AEB1-E132F37D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0074-4C2E-4266-8CF9-8968854F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045E-C4E5-46BC-AC34-4C02CB3DA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6963-5B82-437A-B781-F8C54F65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7328-74D4-407C-8DD0-58F21D2B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D3C9-D56B-4576-8E06-C7DAABC8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4707-CCE7-4D53-B1C5-6EC78A0C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1833-CE15-407F-8F95-189913C2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288B-B877-468E-BFFD-B5726EDE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1AC4-723B-44B4-A674-C241250C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C7BA-AD84-4B32-BD12-5AF4D545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AC22-DDCA-43E6-9F95-CDEC8240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C577F-66DC-4E7D-81FC-844A796B23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