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49403"/>
        <c:axId val="98320194"/>
      </c:barChart>
      <c:catAx>
        <c:axId val="923494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20194"/>
        <c:crosses val="autoZero"/>
        <c:auto val="1"/>
        <c:lblAlgn val="ctr"/>
        <c:lblOffset val="100"/>
        <c:noMultiLvlLbl val="0"/>
      </c:catAx>
      <c:valAx>
        <c:axId val="98320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494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C42-5A8C-446F-90EC-DED663ED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F66-3AC7-4400-B556-DBB21E54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D5E-513E-4417-A53E-EFB7887F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FC9-E921-454D-B392-63CB8153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B94-703B-4980-8C62-F1E2662B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5FD-B0F6-4500-9F3A-BC3CFAA4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4D5-6A36-4176-9F42-0A58C3D5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E89-2060-4C53-A450-77F7D355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223-03CE-4ED3-88BF-BB9D180C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F58-192C-48FA-A4E2-35E775D7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E93-E8F4-488B-A30E-F46DFD8C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8C7-1454-4C3F-A6DE-C8DA827F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C8B64-F124-43A8-83AD-02A6F1A91F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