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810332"/>
        <c:axId val="21479082"/>
      </c:barChart>
      <c:catAx>
        <c:axId val="258103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79082"/>
        <c:crosses val="autoZero"/>
        <c:auto val="1"/>
        <c:lblAlgn val="ctr"/>
        <c:lblOffset val="100"/>
        <c:noMultiLvlLbl val="0"/>
      </c:catAx>
      <c:valAx>
        <c:axId val="214790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103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F6BF-8796-4503-856A-D24CE45E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F924-04FB-4184-A32F-B6FEE92C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2708-E85D-4D62-BB32-9FA8152E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9681-7AE8-40E8-83B8-9684E524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94BC-AFAA-4FE5-BB0C-F8297476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2BD2-2DCF-4B4D-A2A8-E487BA5A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15BA-CF46-48FA-B391-A3298B7C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CCE3-710E-44AF-9055-FEDDA354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247E-AD7D-4104-ADFE-90803894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86CD-7B21-4E53-8E60-A38A7D1F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4891-8D41-49C9-9428-C69FD643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DF8D-C123-4377-9718-E7148B0C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D2502-572A-4140-BC07-62453108E3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