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322349"/>
        <c:axId val="2262005"/>
      </c:barChart>
      <c:catAx>
        <c:axId val="473223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62005"/>
        <c:crosses val="autoZero"/>
        <c:auto val="1"/>
        <c:lblAlgn val="ctr"/>
        <c:lblOffset val="100"/>
        <c:noMultiLvlLbl val="0"/>
      </c:catAx>
      <c:valAx>
        <c:axId val="22620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3223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EEE3-B0A9-4B2E-B921-41926A3B0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F0F3-DBC9-481E-B016-D42582F23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A744-0173-48AE-9D98-4B0ADB857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3B30-9C64-4427-8080-02D13720B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FB74-4E4A-4D73-96F4-E13DD3EDA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134B-C368-467B-9543-21C12E07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6F05-ECF3-49FC-8BF6-49C922AB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2589-3CED-437D-A1E1-4938929B1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DCBD-E064-456D-B7FE-753A309BD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037D-6045-4D41-8F6C-E1C616A4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F642-A5B9-4C5B-860B-059E3532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E87B-15A3-474E-89E2-30F69EB1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546F91-DCB4-435B-98DD-07E69205573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