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120466"/>
        <c:axId val="28340944"/>
      </c:barChart>
      <c:catAx>
        <c:axId val="551204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340944"/>
        <c:crosses val="autoZero"/>
        <c:auto val="1"/>
        <c:lblAlgn val="ctr"/>
        <c:lblOffset val="100"/>
        <c:noMultiLvlLbl val="0"/>
      </c:catAx>
      <c:valAx>
        <c:axId val="283409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204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B512-348D-4F13-BC77-990A46B90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FED7-43BD-404B-9180-E9CFC654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D0A3-CFCB-4842-AB96-52095D84F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9BC2-0B59-4115-B6D9-881AC1567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6AD4-1B30-4A5C-935B-9B1E0C5F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54D0-79BC-46A9-90A0-465C5E6B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7C55-5DBB-4A92-8D65-C4BBC4B6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99BD-902A-4E62-9FA2-AE824F1E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0810-CE54-4C68-A9C9-4E654451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0EF7-7A15-4B3F-8A16-21D5738A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80D9-52A3-41C8-9A77-C777894A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92F6-270F-4C31-97A1-DD0D8935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8706C-1707-4AC8-82B2-D2262700AE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