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518158"/>
        <c:axId val="76065735"/>
      </c:barChart>
      <c:catAx>
        <c:axId val="445181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065735"/>
        <c:crosses val="autoZero"/>
        <c:auto val="1"/>
        <c:lblAlgn val="ctr"/>
        <c:lblOffset val="100"/>
        <c:noMultiLvlLbl val="0"/>
      </c:catAx>
      <c:valAx>
        <c:axId val="760657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5181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2056-CDDD-4D58-A65E-4D3D9ED0E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55FC-57FD-4A2D-A945-50DAC7C9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13DC-CDB0-47FF-8EE6-70D1BD3D2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4016-62B8-43ED-B006-CA209D70E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FCBE-41F0-433D-B31D-BF17B2C9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0FF0-2C1A-41B6-854D-D36CA523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027F-CD2F-4311-A443-59F24217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A7B8-A70C-4593-B3E1-5D4FD2A6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6DC6-1A76-47AA-9841-2FC708CE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04E9-76A2-4988-A651-4841D32D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F76F-885F-4D56-9658-2D48044D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422E-395A-43E2-8EF7-CB95BA49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5A4C72-BAA4-4204-AC31-95C9EAA3BB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