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82205"/>
        <c:axId val="22157684"/>
      </c:barChart>
      <c:catAx>
        <c:axId val="66982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57684"/>
        <c:crosses val="autoZero"/>
        <c:auto val="1"/>
        <c:lblAlgn val="ctr"/>
        <c:lblOffset val="100"/>
        <c:noMultiLvlLbl val="0"/>
      </c:catAx>
      <c:valAx>
        <c:axId val="22157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82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B89-3B3D-4348-868B-2D3F322A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A1A-24A7-42F2-BDD6-6C49F38E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7E0-3478-409F-BE18-33657779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067-454D-4F7A-969F-EBE56D4D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D70-EAAC-4F71-96C3-9CAF41F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628-DF90-456D-BE11-403AF7F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905-901F-48C9-A8FE-25065A63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6A2-A704-4865-986E-509D3FA2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6EC-B7BC-4292-BFBC-1742549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FA1-965C-478F-8BB9-F5ABFC8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912-CD86-41A5-8980-4F2BAFC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8E0-2E18-4A98-95A1-A9F9B63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07800-D58F-4485-B8C7-0D2A69388C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