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81505"/>
        <c:axId val="45412845"/>
      </c:barChart>
      <c:catAx>
        <c:axId val="72981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12845"/>
        <c:crosses val="autoZero"/>
        <c:auto val="1"/>
        <c:lblAlgn val="ctr"/>
        <c:lblOffset val="100"/>
        <c:noMultiLvlLbl val="0"/>
      </c:catAx>
      <c:valAx>
        <c:axId val="45412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81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398-B931-4141-A273-97F00098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BF7-C61D-4FB2-A555-7F5B2014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4B1-4254-49F8-9C97-6670216A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D9E-4FF3-4128-8823-C26732C6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8CE-2A28-46DC-9855-2DACAE11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40A-CF00-4EC0-B0E3-F56B997B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240-7345-4184-B65B-EA016EEB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741-E0FE-49CF-91C4-93FDC7D8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89C-C355-400A-A600-D869DA8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70F-6B93-46BC-B18A-9E09665C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5D9-2AB2-4DF0-9E31-5DCA5984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795-EA6D-4D81-B1AD-7755B4F4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45CD0-1818-4DB4-AD2C-864CAA9CBD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