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02124"/>
        <c:axId val="98201522"/>
      </c:barChart>
      <c:catAx>
        <c:axId val="489021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01522"/>
        <c:crosses val="autoZero"/>
        <c:auto val="1"/>
        <c:lblAlgn val="ctr"/>
        <c:lblOffset val="100"/>
        <c:noMultiLvlLbl val="0"/>
      </c:catAx>
      <c:valAx>
        <c:axId val="98201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021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141-030A-450D-B2B8-07377AA8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3E28-32B9-4678-8298-667FD021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B50-E141-4524-AD10-333A7006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DF4-138B-49EB-A841-D70044AB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C34-8D21-4A2E-A25F-A4FA6276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7D4-1E5B-4E7A-8208-0B1EAF8A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0F0-0032-4166-A5C0-E9D2A33B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FFB-C118-438D-BC1F-8DE8D6C1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99B-4DFE-4CF8-9584-BD24B3C1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AB46-3BEB-4BC6-83C8-B9E7EF53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BC6-DDBA-4326-83FC-9F52829F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75C-0F78-43C6-993A-BCE5BE49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4D617-20FA-4C78-88BD-CEB5F61FB7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