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92640"/>
        <c:axId val="26562937"/>
      </c:barChart>
      <c:catAx>
        <c:axId val="23392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2937"/>
        <c:crosses val="autoZero"/>
        <c:auto val="1"/>
        <c:lblAlgn val="ctr"/>
        <c:lblOffset val="100"/>
        <c:noMultiLvlLbl val="0"/>
      </c:catAx>
      <c:valAx>
        <c:axId val="26562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2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C3C-2C85-46FB-96EE-07B79D6D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E70-D757-4B5E-93DF-AC0AE06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757-63EF-4E30-884F-135B0F6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CC2-2E20-4A19-946F-6C63EDD6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076-ECF6-487D-8068-92924B11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297-0E97-473B-9228-F81D447E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E2A-58A1-4996-B429-0ED1ADA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DC6-215A-41D3-8452-DF138AAD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5C0-55B7-4BC5-9A48-4DC5784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1D7-B773-4D09-9880-DB0F042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C4D-C061-4C72-94FE-1BDF777D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824-7EB2-426B-8784-77D08D6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39919-4BBF-40D2-B456-1C0B2B800C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