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96172"/>
        <c:axId val="71535639"/>
      </c:barChart>
      <c:catAx>
        <c:axId val="39961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535639"/>
        <c:crosses val="autoZero"/>
        <c:auto val="1"/>
        <c:lblAlgn val="ctr"/>
        <c:lblOffset val="100"/>
        <c:noMultiLvlLbl val="0"/>
      </c:catAx>
      <c:valAx>
        <c:axId val="715356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961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308E-A92F-4F05-A3F7-8EF6D65A8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8992-4160-41FC-B0CC-38EEE18D1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1012-1A9D-4979-9011-1540B3C79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000B-4D6C-4870-BF84-F4DAFE3CD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F177-738B-4F7D-AD86-833C3C555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A10E-9C1A-4844-B26D-470086D4D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758E-0F56-4F86-BA65-EB2CE098A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D89E-908D-450D-81E1-E37BC4A5B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4459-5768-403F-BC73-E7B1849DE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93B2-7221-49F0-95FD-BE754BE3F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C1BB-5E90-4272-BB8B-3AF76C1D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DD0C-7132-4C9C-8394-7B86F7CA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730354-2599-49FC-85B5-927F7E7137E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