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55563"/>
        <c:axId val="32239963"/>
      </c:barChart>
      <c:catAx>
        <c:axId val="51055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9963"/>
        <c:crosses val="autoZero"/>
        <c:auto val="1"/>
        <c:lblAlgn val="ctr"/>
        <c:lblOffset val="100"/>
        <c:noMultiLvlLbl val="0"/>
      </c:catAx>
      <c:valAx>
        <c:axId val="3223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55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6DA-DD0F-4611-997C-588412C2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E9-86A2-48AD-9F13-2473D5F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54A-9A5E-4D56-99BB-0F3CC4D8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63A-F382-4684-9B11-C34EA14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629-2385-4F60-A202-6AB4433E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800-3BCD-4F8D-919F-1E6FD2E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DFF-2310-4CF1-98A1-12CF21F3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AFC-B517-43DA-B984-ACA27D5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38C-F3B3-412B-B7F3-4DA7E567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57B-6E81-4488-BC33-EC198AA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153-69D9-4777-9D9B-5657662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7D3-8DA7-4E24-919B-2BE0698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98919-D771-4F1A-A448-373E1F3CFD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