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4902"/>
        <c:axId val="34790526"/>
      </c:barChart>
      <c:catAx>
        <c:axId val="55104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0526"/>
        <c:crosses val="autoZero"/>
        <c:auto val="1"/>
        <c:lblAlgn val="ctr"/>
        <c:lblOffset val="100"/>
        <c:noMultiLvlLbl val="0"/>
      </c:catAx>
      <c:valAx>
        <c:axId val="34790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4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1CE-2A51-4364-992A-FD3E0E5E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5AC-DD05-4144-9D61-6C7D742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793-B738-4920-8475-CC03CA30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CCC-7CF0-450F-A224-B58B825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46B-C9D6-49AD-8C33-FD6D128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CC7-F650-4BEF-A31D-60BF472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00E-FC8B-45CD-8712-0BDB8A9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0AD-9AC6-45E2-ABC9-208FAA2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92F-10F8-400A-A30B-E4240414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C56-CC69-4D8B-B3A3-BFF7E52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E09-B233-45C1-82F2-B38DCBC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517-E64F-4E2E-A767-8747824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30FFB-D584-4E61-93AE-3CE8CAFD6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