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55497"/>
        <c:axId val="11582129"/>
      </c:barChart>
      <c:catAx>
        <c:axId val="205554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82129"/>
        <c:crosses val="autoZero"/>
        <c:auto val="1"/>
        <c:lblAlgn val="ctr"/>
        <c:lblOffset val="100"/>
        <c:noMultiLvlLbl val="0"/>
      </c:catAx>
      <c:valAx>
        <c:axId val="115821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554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D07-0D4B-4112-B314-23A48943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B71-CA9A-4F60-B80C-754335C0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6D2-F637-4513-901B-4FAFC283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AB7-FA8A-4093-BDE1-F464D6D7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1C02-37EF-4A8F-9B14-7BD24363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DE6-109B-4316-9915-A06C045D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D84-167B-4594-87CF-1A29FFFD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F83-0773-46FF-B00A-85906B81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9AB-F5E4-4442-98B1-8D9A49E1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9A22-B611-4FA2-BAB8-D871BB8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623-D09D-40B8-BD0A-CC0A1B42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0F1-90C9-414B-83C7-B94A1407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CED73-494F-43E1-902F-5F7022DF6C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