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98575"/>
        <c:axId val="48175420"/>
      </c:barChart>
      <c:catAx>
        <c:axId val="28698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75420"/>
        <c:crosses val="autoZero"/>
        <c:auto val="1"/>
        <c:lblAlgn val="ctr"/>
        <c:lblOffset val="100"/>
        <c:noMultiLvlLbl val="0"/>
      </c:catAx>
      <c:valAx>
        <c:axId val="48175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98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B4B-25B1-4AE6-AF19-08E9B07E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F15-BAEC-40B5-99BE-DA188645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4E3-46A2-429B-AF04-7E2C018E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2F9-DC55-4FA3-8273-EE026DCD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507-A55F-4877-A2A0-38659E32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170-4318-492C-BA5F-88FF86CC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D2C-E6E5-4A07-8640-6F7E7DCD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A00-A72B-43F3-A13D-C1BDB8F8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B2ED-9E94-4344-A8F4-C1BAEA07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4A7-82D1-48EA-82CE-3B216E4E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331-0BFF-4664-9B98-8DA68222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B840-6606-430B-BD84-1DCD4622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BFAE9-AFF2-4DAC-8733-4937D8BEE6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