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427855"/>
        <c:axId val="5578344"/>
      </c:barChart>
      <c:catAx>
        <c:axId val="604278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78344"/>
        <c:crosses val="autoZero"/>
        <c:auto val="1"/>
        <c:lblAlgn val="ctr"/>
        <c:lblOffset val="100"/>
        <c:noMultiLvlLbl val="0"/>
      </c:catAx>
      <c:valAx>
        <c:axId val="55783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4278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89BD-C42C-4691-924C-A7CBC0FFB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F008-06B4-452A-9171-E7E03F829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C98C-E3E9-4277-A42B-31F1C6881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4ECD-53FC-43EA-B55A-BCBC3C0D2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1F8A-CE20-411E-B57B-988BB0D6E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380B-0316-4C0C-85AD-514AA4F7D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553A-BA57-4A24-B08C-217447FA1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07DC-F7D6-4FB9-9DD9-2AE225312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80FE-E2C2-43D7-A7A5-09BD17AA7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5FF8-7D5F-4C9E-9EDA-4935309F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633D-E160-4E09-BFBC-973B9620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A3E8-3728-4601-B1FD-01E7CF2A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9C471D-7C1F-410D-A77D-9F1A3F37133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